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232A-0DCF-4094-997E-AB0996F8EF9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7917-14E4-4589-9DB2-3BB044E5C9A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2CC4-7BCA-4F82-BC8C-1ECCEEB2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DFA-A57A-4F6E-BBEA-95391E0D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8AB-0456-4773-AB6A-328D5868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E08B-4C89-4B8C-8E5E-BEB4B96B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79C-AC4F-4883-A3AC-7C802D90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A27D-A833-4763-B428-F05A4450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034F-5068-423D-89ED-6C34CFEE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263B-5C5A-46B4-AC58-ABB3D1A7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AE3F-B3A2-4EB2-89F2-8726D4B4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B5D-5E3B-4E31-B3EA-48B570C3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78B-BAF0-4B60-80B9-A7C91F9F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7AC0-7C8A-4762-B2A4-27C19BDE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0B59-AE14-43E3-BB2B-C1A300708D7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vimeo.com/2073568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00720" cy="3948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468360" y="5013360"/>
            <a:ext cx="5761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a voz de Latinoamé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legio Ayalde 4º ESO (Bizka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3 CuadroTexto"/>
          <p:cNvSpPr/>
          <p:nvPr/>
        </p:nvSpPr>
        <p:spPr>
          <a:xfrm>
            <a:off x="6300720" y="2205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cuencia didác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6:07Z</dcterms:created>
  <dc:creator>Mari</dc:creator>
  <dc:description/>
  <dc:language>en-US</dc:language>
  <cp:lastModifiedBy>Mari</cp:lastModifiedBy>
  <dcterms:modified xsi:type="dcterms:W3CDTF">2015-04-21T19:22:15Z</dcterms:modified>
  <cp:revision>1</cp:revision>
  <dc:subject/>
  <dc:title>Diapositiva 1</dc:title>
</cp:coreProperties>
</file>